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7588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4440" y="-36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07640" y="703080"/>
            <a:ext cx="508788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47520" y="4458960"/>
            <a:ext cx="5206680" cy="4226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91972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4440" y="8919720"/>
            <a:ext cx="3078000" cy="468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BEDF3A-7F0B-4C94-87F4-68199D36E9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024440" y="8920080"/>
            <a:ext cx="3078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C57897-BF8B-4EAF-A548-07EA57E841D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008000" y="703440"/>
            <a:ext cx="5087880" cy="35226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7520" y="4458960"/>
            <a:ext cx="52066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7010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uberty Body Part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1" descr="C:\Users\Paula\Searches\Documents\2013-14 CWPR INVOICES AND ACCOUNTS\cwp logo 17june.jpg"/>
          <p:cNvPicPr/>
          <p:nvPr/>
        </p:nvPicPr>
        <p:blipFill>
          <a:blip r:embed="rId2"/>
          <a:stretch/>
        </p:blipFill>
        <p:spPr>
          <a:xfrm>
            <a:off x="8704440" y="6253200"/>
            <a:ext cx="1201680" cy="6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92240" y="2071800"/>
            <a:ext cx="9527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ELBOW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y6 lesson 1 ovaries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588320" y="2071800"/>
            <a:ext cx="6735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y6 lesson 1 penis"/>
          <p:cNvPicPr/>
          <p:nvPr/>
        </p:nvPicPr>
        <p:blipFill>
          <a:blip r:embed="rId1"/>
          <a:stretch/>
        </p:blipFill>
        <p:spPr>
          <a:xfrm>
            <a:off x="533520" y="303120"/>
            <a:ext cx="853416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06360" y="2301840"/>
            <a:ext cx="929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2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y6 lesson 1 scrotum"/>
          <p:cNvPicPr/>
          <p:nvPr/>
        </p:nvPicPr>
        <p:blipFill>
          <a:blip r:embed="rId1"/>
          <a:stretch/>
        </p:blipFill>
        <p:spPr>
          <a:xfrm>
            <a:off x="380880" y="271440"/>
            <a:ext cx="8686800" cy="597708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 flipV="1">
            <a:off x="5562720" y="1752480"/>
            <a:ext cx="198108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478560" y="690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78360" y="2071800"/>
            <a:ext cx="91602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oman internal"/>
          <p:cNvPicPr/>
          <p:nvPr/>
        </p:nvPicPr>
        <p:blipFill>
          <a:blip r:embed="rId1"/>
          <a:stretch/>
        </p:blipFill>
        <p:spPr>
          <a:xfrm>
            <a:off x="457200" y="228600"/>
            <a:ext cx="4149720" cy="6019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879800" y="3505320"/>
            <a:ext cx="477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UTERU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90920" y="3048120"/>
            <a:ext cx="2666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01400" y="2462040"/>
            <a:ext cx="91036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000000"/>
                </a:solidFill>
                <a:latin typeface="Arial"/>
              </a:rPr>
              <a:t>TESTICLES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y6 lesson 1 testicles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40520" y="2071800"/>
            <a:ext cx="8434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y6 lesson 1 elbows"/>
          <p:cNvPicPr/>
          <p:nvPr/>
        </p:nvPicPr>
        <p:blipFill>
          <a:blip r:embed="rId1"/>
          <a:stretch/>
        </p:blipFill>
        <p:spPr>
          <a:xfrm>
            <a:off x="228600" y="192240"/>
            <a:ext cx="8915400" cy="6108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3276720" y="1981080"/>
            <a:ext cx="358128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5257800" y="4419720"/>
            <a:ext cx="167652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 flipH="1">
            <a:off x="3276360" y="4419720"/>
            <a:ext cx="198108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 flipV="1">
            <a:off x="5257800" y="22856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533520" y="4724280"/>
            <a:ext cx="47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VAGIN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Woman internal"/>
          <p:cNvPicPr/>
          <p:nvPr/>
        </p:nvPicPr>
        <p:blipFill>
          <a:blip r:embed="rId1"/>
          <a:stretch/>
        </p:blipFill>
        <p:spPr>
          <a:xfrm>
            <a:off x="5715000" y="457200"/>
            <a:ext cx="3887640" cy="5638680"/>
          </a:xfrm>
          <a:prstGeom prst="rect">
            <a:avLst/>
          </a:prstGeom>
          <a:ln w="0">
            <a:noFill/>
          </a:ln>
        </p:spPr>
      </p:pic>
      <p:sp>
        <p:nvSpPr>
          <p:cNvPr id="75" name="Line 7"/>
          <p:cNvSpPr/>
          <p:nvPr/>
        </p:nvSpPr>
        <p:spPr>
          <a:xfrm flipV="1">
            <a:off x="2819520" y="3886200"/>
            <a:ext cx="48765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50080" y="1447920"/>
            <a:ext cx="7032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5868720" y="28494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VULV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04920" y="5867280"/>
            <a:ext cx="937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xternal genitals of the female are collectively known as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ulv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agi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often used to refer to the female genitals, even though the vagina is inter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5124960" y="944640"/>
            <a:ext cx="43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CLITOR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1" descr="C:\Users\Paula\Searches\Documents\AAA SECOND PRIMARY  CD 22.10.09\Year 6 19.10.09\Year 6 Lesson 1\Year 6 Lesson 1 Resources\FemExternalnew3.jpg"/>
          <p:cNvPicPr/>
          <p:nvPr/>
        </p:nvPicPr>
        <p:blipFill>
          <a:blip r:embed="rId1"/>
          <a:stretch/>
        </p:blipFill>
        <p:spPr>
          <a:xfrm>
            <a:off x="838080" y="228600"/>
            <a:ext cx="3810240" cy="5389560"/>
          </a:xfrm>
          <a:prstGeom prst="rect">
            <a:avLst/>
          </a:prstGeom>
          <a:ln w="0">
            <a:noFill/>
          </a:ln>
        </p:spPr>
      </p:pic>
      <p:sp>
        <p:nvSpPr>
          <p:cNvPr id="81" name="Line 9"/>
          <p:cNvSpPr/>
          <p:nvPr/>
        </p:nvSpPr>
        <p:spPr>
          <a:xfrm flipH="1">
            <a:off x="2819520" y="1600200"/>
            <a:ext cx="22860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276720" y="3048120"/>
            <a:ext cx="2666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85200" y="2071800"/>
            <a:ext cx="7343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NAVEL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y6 lesson 1 navel"/>
          <p:cNvPicPr/>
          <p:nvPr/>
        </p:nvPicPr>
        <p:blipFill>
          <a:blip r:embed="rId1"/>
          <a:stretch/>
        </p:blipFill>
        <p:spPr>
          <a:xfrm>
            <a:off x="457200" y="249120"/>
            <a:ext cx="8610480" cy="57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3520" y="762120"/>
            <a:ext cx="68558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PUBIC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y6 lesson 1 pubic hair"/>
          <p:cNvPicPr/>
          <p:nvPr/>
        </p:nvPicPr>
        <p:blipFill>
          <a:blip r:embed="rId1"/>
          <a:stretch/>
        </p:blipFill>
        <p:spPr>
          <a:xfrm>
            <a:off x="115920" y="9360"/>
            <a:ext cx="895176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200" y="2071800"/>
            <a:ext cx="9407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200" spc="-1" strike="noStrike">
                <a:solidFill>
                  <a:srgbClr val="000000"/>
                </a:solidFill>
                <a:latin typeface="Arial"/>
              </a:rPr>
              <a:t>NIPPLE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y6 lesson 1 nipples"/>
          <p:cNvPicPr/>
          <p:nvPr/>
        </p:nvPicPr>
        <p:blipFill>
          <a:blip r:embed="rId1"/>
          <a:stretch/>
        </p:blipFill>
        <p:spPr>
          <a:xfrm>
            <a:off x="228600" y="0"/>
            <a:ext cx="8991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9720" y="2193840"/>
            <a:ext cx="89877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600" spc="-1" strike="noStrike">
                <a:solidFill>
                  <a:srgbClr val="000000"/>
                </a:solidFill>
                <a:latin typeface="Arial"/>
              </a:rPr>
              <a:t>OVARIES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1:36:23Z</dcterms:created>
  <dc:creator>Video Editor</dc:creator>
  <dc:description/>
  <dc:language>en-US</dc:language>
  <cp:lastModifiedBy>paula</cp:lastModifiedBy>
  <dcterms:modified xsi:type="dcterms:W3CDTF">2019-07-17T13:31:42Z</dcterms:modified>
  <cp:revision>15</cp:revision>
  <dc:subject/>
  <dc:title>PowerPoint Presentation</dc:title>
</cp:coreProperties>
</file>